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F26-8DAF-4D3F-AA40-068C0D8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D76-5408-4FEB-89D7-6CFF98D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226-8984-46AA-9889-3B6EBA9C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443-D0FE-4277-A643-D7895633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9A1C-E846-4363-BA8B-285E925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7A39-5A05-4632-B927-C1707D8C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775-0C94-4520-8538-CBE59569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F189-0DB8-486D-90D7-DF31014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4A50-A852-4AAA-850A-3735119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04F5-B98D-485A-9B89-C9D1822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856-6B07-47B1-B8B7-842C4F0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835-B479-44CF-8CDE-A6DC906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3A0-9275-40D3-98D6-49AFB18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66A-F344-4D02-AD02-A42BB97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2144-5B5D-4856-BFCE-9A035DD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0995-6CAD-442C-B6C6-6F6750DC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F235-786C-444B-9E3B-C24086EE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EE3-E51A-40E8-95F4-D3C070FD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3ED-6538-40AB-B8F0-338F6BB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00A-C810-48A2-967D-B8B113FA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ACE-401B-40F8-BE65-4AF4C56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970-6F9A-422E-9420-1D650AA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7C5-E0A4-4557-BA50-329A327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148-5448-40F3-9970-41D05F6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D08-7291-4FB9-9FC8-42BE1E0DBFED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12F89321-8731-4806-8476-AC9C1B00B202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2420-5E10-4A9D-81C0-4C4A30709BC9}" type="datetime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Page </a:t>
            </a:r>
            <a:fld id="{8548B8F7-0278-48F3-93C0-062A9C59C515}" type="slidenum"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AU-AOS </a:t>
            </a:r>
            <a:br>
              <a:rPr sz="4000"/>
            </a:b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 Release 1</a:t>
            </a:r>
            <a:endParaRPr b="0" lang="en-US" sz="2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68480" y="1573200"/>
            <a:ext cx="6856200" cy="497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5B7-1202-471F-B44C-8057B8B11E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3D9AD-1227-489D-A979-D1654232C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Select cells to scan &amp; add not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24000" y="2028960"/>
            <a:ext cx="6696000" cy="2800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224000" y="2028960"/>
            <a:ext cx="6696000" cy="2800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191120" y="5181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81080" y="5257800"/>
            <a:ext cx="13716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nnel 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5257800"/>
            <a:ext cx="13716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nnel 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3607560" y="6186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enter of rot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4514760" y="5900760"/>
            <a:ext cx="0" cy="6858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572000" y="2666880"/>
            <a:ext cx="2435400" cy="380880"/>
            <a:chOff x="4572000" y="2666880"/>
            <a:chExt cx="2435400" cy="380880"/>
          </a:xfrm>
        </p:grpSpPr>
        <p:sp>
          <p:nvSpPr>
            <p:cNvPr id="306" name=""/>
            <p:cNvSpPr/>
            <p:nvPr/>
          </p:nvSpPr>
          <p:spPr>
            <a:xfrm>
              <a:off x="4572000" y="30477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80920" y="26668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0C7-8C0C-4F4E-861A-00B3144F429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33DEF-AFFC-4BD0-B75C-C8F76D3AEF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dding sample informatio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43760" cy="430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2B5-AF1B-47ED-ABD9-99032556C4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D68FF-73D7-4478-B6A1-32A354970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dding cell note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715000" y="4495680"/>
            <a:ext cx="3038400" cy="1743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95160" y="1619280"/>
            <a:ext cx="6696360" cy="2800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95160" y="1619280"/>
            <a:ext cx="6696360" cy="2800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5715000" y="4495680"/>
            <a:ext cx="3038400" cy="1743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5715000" y="4495680"/>
            <a:ext cx="3038400" cy="1743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695160" y="1619280"/>
            <a:ext cx="6696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4038480" y="2514600"/>
            <a:ext cx="2435760" cy="380880"/>
            <a:chOff x="4038480" y="2514600"/>
            <a:chExt cx="2435760" cy="380880"/>
          </a:xfrm>
        </p:grpSpPr>
        <p:sp>
          <p:nvSpPr>
            <p:cNvPr id="318" name=""/>
            <p:cNvSpPr/>
            <p:nvPr/>
          </p:nvSpPr>
          <p:spPr>
            <a:xfrm>
              <a:off x="4038480" y="28954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47760" y="25146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26D-9A9E-461C-AB76-33EB3378D82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A9B31-AA50-4E76-BCFA-DBCEA29FF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Wizard has been complete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9840" y="1881360"/>
            <a:ext cx="4324320" cy="309528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6019920" y="4419720"/>
            <a:ext cx="2435400" cy="380880"/>
            <a:chOff x="6019920" y="4419720"/>
            <a:chExt cx="2435400" cy="380880"/>
          </a:xfrm>
        </p:grpSpPr>
        <p:sp>
          <p:nvSpPr>
            <p:cNvPr id="323" name=""/>
            <p:cNvSpPr/>
            <p:nvPr/>
          </p:nvSpPr>
          <p:spPr>
            <a:xfrm>
              <a:off x="6019920" y="480060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28840" y="441972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CFE-FCAC-4202-9924-A75526D8009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15284-A0B9-4869-962F-E31C449E9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Machine display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068480" y="1523880"/>
            <a:ext cx="6856200" cy="498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38280" y="1447920"/>
            <a:ext cx="144792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ctual valu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447920"/>
            <a:ext cx="144792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esired valu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7086600" y="1447920"/>
            <a:ext cx="144792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Hardware 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5181480"/>
            <a:ext cx="1447920" cy="60984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tus b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C4E-88A2-4D39-B645-9865B46C6C1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26C1A-A183-4744-AAE9-0B3FEC86FE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Hardware statu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7760" y="3525840"/>
            <a:ext cx="3960720" cy="287496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19520" y="1828800"/>
            <a:ext cx="4495680" cy="2514240"/>
            <a:chOff x="2819520" y="1828800"/>
            <a:chExt cx="4495680" cy="2514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65543" t="12778" r="0" b="68784"/>
            <a:stretch/>
          </p:blipFill>
          <p:spPr>
            <a:xfrm>
              <a:off x="3579840" y="1828800"/>
              <a:ext cx="3735360" cy="14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 flipV="1">
              <a:off x="2819520" y="2437920"/>
              <a:ext cx="761760" cy="1676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57600" y="3276360"/>
              <a:ext cx="3657600" cy="10666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105160" y="2437920"/>
            <a:ext cx="3198960" cy="3372480"/>
            <a:chOff x="5105160" y="2437920"/>
            <a:chExt cx="3198960" cy="3372480"/>
          </a:xfrm>
        </p:grpSpPr>
        <p:sp>
          <p:nvSpPr>
            <p:cNvPr id="338" name=""/>
            <p:cNvSpPr/>
            <p:nvPr/>
          </p:nvSpPr>
          <p:spPr>
            <a:xfrm>
              <a:off x="5499360" y="4070520"/>
              <a:ext cx="2804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eaning of light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White- not pres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Yellow- present, not on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lue- on, warming up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reen- ready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d- erro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105160" y="2437920"/>
              <a:ext cx="533160" cy="1676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932760" y="1860480"/>
            <a:ext cx="2724840" cy="916920"/>
            <a:chOff x="932760" y="1860480"/>
            <a:chExt cx="2724840" cy="916920"/>
          </a:xfrm>
        </p:grpSpPr>
        <p:sp>
          <p:nvSpPr>
            <p:cNvPr id="341" name=""/>
            <p:cNvSpPr/>
            <p:nvPr/>
          </p:nvSpPr>
          <p:spPr>
            <a:xfrm>
              <a:off x="932760" y="1860480"/>
              <a:ext cx="233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eaning of light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White- not pres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reen- pres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0400" y="2286000"/>
              <a:ext cx="4572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24120" y="457200"/>
            <a:ext cx="2468880" cy="1676520"/>
            <a:chOff x="6324120" y="457200"/>
            <a:chExt cx="2468880" cy="1676520"/>
          </a:xfrm>
        </p:grpSpPr>
        <p:sp>
          <p:nvSpPr>
            <p:cNvPr id="344" name=""/>
            <p:cNvSpPr/>
            <p:nvPr/>
          </p:nvSpPr>
          <p:spPr>
            <a:xfrm>
              <a:off x="6677280" y="457200"/>
              <a:ext cx="211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eaning of light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White- not ready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Green- o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buClr>
                  <a:srgbClr val="40458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d- error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324120" y="1295280"/>
              <a:ext cx="38124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B4-1C56-4FAA-9C33-D8A1F8AC3D7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8382E-F683-4D47-BF44-94D22E2980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19320" y="1571760"/>
            <a:ext cx="6856200" cy="4981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Setting the desired rotor speed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657600" y="2819520"/>
            <a:ext cx="30765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1358280" y="2057400"/>
            <a:ext cx="1927800" cy="457200"/>
            <a:chOff x="1358280" y="2057400"/>
            <a:chExt cx="1927800" cy="457200"/>
          </a:xfrm>
        </p:grpSpPr>
        <p:sp>
          <p:nvSpPr>
            <p:cNvPr id="350" name=""/>
            <p:cNvSpPr/>
            <p:nvPr/>
          </p:nvSpPr>
          <p:spPr>
            <a:xfrm>
              <a:off x="1380960" y="2481120"/>
              <a:ext cx="19051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58280" y="20620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33720" y="2057400"/>
              <a:ext cx="38088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209760" y="2833560"/>
            <a:ext cx="1819440" cy="747720"/>
            <a:chOff x="3209760" y="2833560"/>
            <a:chExt cx="1819440" cy="747720"/>
          </a:xfrm>
        </p:grpSpPr>
        <p:sp>
          <p:nvSpPr>
            <p:cNvPr id="354" name=""/>
            <p:cNvSpPr/>
            <p:nvPr/>
          </p:nvSpPr>
          <p:spPr>
            <a:xfrm>
              <a:off x="3352680" y="3200400"/>
              <a:ext cx="11430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2680" y="3200400"/>
              <a:ext cx="167652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9760" y="2833560"/>
              <a:ext cx="54180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19920" y="3581280"/>
            <a:ext cx="1444680" cy="381240"/>
            <a:chOff x="6019920" y="3581280"/>
            <a:chExt cx="1444680" cy="381240"/>
          </a:xfrm>
        </p:grpSpPr>
        <p:sp>
          <p:nvSpPr>
            <p:cNvPr id="358" name=""/>
            <p:cNvSpPr/>
            <p:nvPr/>
          </p:nvSpPr>
          <p:spPr>
            <a:xfrm>
              <a:off x="6019920" y="3962520"/>
              <a:ext cx="11430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38120" y="35812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25F-596D-4CFE-9FE9-C90E24235EC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BBA33-3D09-4FB2-B3D9-CE30D65A5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219320" y="1571760"/>
            <a:ext cx="6856200" cy="49813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ing the temperatur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2324160" cy="367668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221840" y="1980720"/>
            <a:ext cx="2130840" cy="686160"/>
            <a:chOff x="1221840" y="1980720"/>
            <a:chExt cx="2130840" cy="686160"/>
          </a:xfrm>
        </p:grpSpPr>
        <p:sp>
          <p:nvSpPr>
            <p:cNvPr id="364" name=""/>
            <p:cNvSpPr/>
            <p:nvPr/>
          </p:nvSpPr>
          <p:spPr>
            <a:xfrm>
              <a:off x="1244520" y="2633760"/>
              <a:ext cx="2108160" cy="33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21840" y="221472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6920" y="1980720"/>
              <a:ext cx="36540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209760" y="2743200"/>
            <a:ext cx="2276640" cy="990720"/>
            <a:chOff x="3209760" y="2743200"/>
            <a:chExt cx="2276640" cy="990720"/>
          </a:xfrm>
        </p:grpSpPr>
        <p:sp>
          <p:nvSpPr>
            <p:cNvPr id="368" name=""/>
            <p:cNvSpPr/>
            <p:nvPr/>
          </p:nvSpPr>
          <p:spPr>
            <a:xfrm flipV="1">
              <a:off x="3352680" y="2743200"/>
              <a:ext cx="2133720" cy="8380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52680" y="3581280"/>
              <a:ext cx="2133720" cy="152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09760" y="3214800"/>
              <a:ext cx="54180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362040" y="4433760"/>
            <a:ext cx="3115080" cy="747720"/>
            <a:chOff x="3362040" y="4433760"/>
            <a:chExt cx="3115080" cy="747720"/>
          </a:xfrm>
        </p:grpSpPr>
        <p:sp>
          <p:nvSpPr>
            <p:cNvPr id="372" name=""/>
            <p:cNvSpPr/>
            <p:nvPr/>
          </p:nvSpPr>
          <p:spPr>
            <a:xfrm>
              <a:off x="3886200" y="4724280"/>
              <a:ext cx="2590920" cy="457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62040" y="4433760"/>
              <a:ext cx="54180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647-9376-4A9A-8B3B-18683F93F52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2DD48-1444-495D-BE28-C4AC8A01EB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tarting the machin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219320" y="1571760"/>
            <a:ext cx="6856200" cy="4981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2352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817560" y="2529000"/>
            <a:ext cx="1468440" cy="368280"/>
            <a:chOff x="817560" y="2529000"/>
            <a:chExt cx="1468440" cy="368280"/>
          </a:xfrm>
        </p:grpSpPr>
        <p:sp>
          <p:nvSpPr>
            <p:cNvPr id="378" name=""/>
            <p:cNvSpPr/>
            <p:nvPr/>
          </p:nvSpPr>
          <p:spPr>
            <a:xfrm>
              <a:off x="838080" y="2895480"/>
              <a:ext cx="1447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7560" y="2529000"/>
              <a:ext cx="116676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Unche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038480" y="3429000"/>
            <a:ext cx="2435760" cy="380880"/>
            <a:chOff x="4038480" y="3429000"/>
            <a:chExt cx="2435760" cy="380880"/>
          </a:xfrm>
        </p:grpSpPr>
        <p:sp>
          <p:nvSpPr>
            <p:cNvPr id="381" name=""/>
            <p:cNvSpPr/>
            <p:nvPr/>
          </p:nvSpPr>
          <p:spPr>
            <a:xfrm>
              <a:off x="4038480" y="38098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7760" y="34290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1557360"/>
            <a:ext cx="2435760" cy="380880"/>
            <a:chOff x="3581280" y="1557360"/>
            <a:chExt cx="2435760" cy="380880"/>
          </a:xfrm>
        </p:grpSpPr>
        <p:sp>
          <p:nvSpPr>
            <p:cNvPr id="384" name=""/>
            <p:cNvSpPr/>
            <p:nvPr/>
          </p:nvSpPr>
          <p:spPr>
            <a:xfrm>
              <a:off x="3581280" y="193824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90560" y="155736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33F-6AC3-45F2-A8ED-04C7AEF6ABF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AB752-AAB9-4052-9D23-DC5722FE5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ing the gain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6560" cy="49816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1752480" y="1523880"/>
            <a:ext cx="2435760" cy="380880"/>
            <a:chOff x="1752480" y="1523880"/>
            <a:chExt cx="2435760" cy="380880"/>
          </a:xfrm>
        </p:grpSpPr>
        <p:sp>
          <p:nvSpPr>
            <p:cNvPr id="389" name=""/>
            <p:cNvSpPr/>
            <p:nvPr/>
          </p:nvSpPr>
          <p:spPr>
            <a:xfrm>
              <a:off x="1752480" y="190476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61760" y="15238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4570200" cy="3946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4570200" cy="394632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3657600" y="2286000"/>
            <a:ext cx="3038400" cy="380880"/>
            <a:chOff x="3657600" y="2286000"/>
            <a:chExt cx="3038400" cy="380880"/>
          </a:xfrm>
        </p:grpSpPr>
        <p:sp>
          <p:nvSpPr>
            <p:cNvPr id="394" name=""/>
            <p:cNvSpPr/>
            <p:nvPr/>
          </p:nvSpPr>
          <p:spPr>
            <a:xfrm>
              <a:off x="3657600" y="26668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78400" y="2286000"/>
              <a:ext cx="131760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lect cell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419720" y="2209680"/>
            <a:ext cx="3551760" cy="380880"/>
            <a:chOff x="4419720" y="2209680"/>
            <a:chExt cx="3551760" cy="380880"/>
          </a:xfrm>
        </p:grpSpPr>
        <p:sp>
          <p:nvSpPr>
            <p:cNvPr id="397" name=""/>
            <p:cNvSpPr/>
            <p:nvPr/>
          </p:nvSpPr>
          <p:spPr>
            <a:xfrm>
              <a:off x="4419720" y="25905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32600" y="2209680"/>
              <a:ext cx="18388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lect channel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2819520" y="1905120"/>
            <a:ext cx="4570200" cy="39463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3352680" y="3048120"/>
            <a:ext cx="2820600" cy="380880"/>
            <a:chOff x="3352680" y="3048120"/>
            <a:chExt cx="2820600" cy="380880"/>
          </a:xfrm>
        </p:grpSpPr>
        <p:sp>
          <p:nvSpPr>
            <p:cNvPr id="401" name=""/>
            <p:cNvSpPr/>
            <p:nvPr/>
          </p:nvSpPr>
          <p:spPr>
            <a:xfrm>
              <a:off x="3352680" y="342900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7360" y="3048120"/>
              <a:ext cx="110592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t gain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820960" y="1905120"/>
            <a:ext cx="4570560" cy="394632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581280" y="3276720"/>
            <a:ext cx="2793600" cy="380880"/>
            <a:chOff x="3581280" y="3276720"/>
            <a:chExt cx="2793600" cy="380880"/>
          </a:xfrm>
        </p:grpSpPr>
        <p:sp>
          <p:nvSpPr>
            <p:cNvPr id="405" name=""/>
            <p:cNvSpPr/>
            <p:nvPr/>
          </p:nvSpPr>
          <p:spPr>
            <a:xfrm>
              <a:off x="3581280" y="365760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05680" y="3276720"/>
              <a:ext cx="106920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t PGA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334120" y="1876320"/>
            <a:ext cx="2435400" cy="380880"/>
            <a:chOff x="5334120" y="1876320"/>
            <a:chExt cx="2435400" cy="380880"/>
          </a:xfrm>
        </p:grpSpPr>
        <p:sp>
          <p:nvSpPr>
            <p:cNvPr id="408" name=""/>
            <p:cNvSpPr/>
            <p:nvPr/>
          </p:nvSpPr>
          <p:spPr>
            <a:xfrm>
              <a:off x="5334120" y="225720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43040" y="187632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3733920" y="3124080"/>
            <a:ext cx="30002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5943600" y="3886200"/>
            <a:ext cx="2435400" cy="380880"/>
            <a:chOff x="5943600" y="3886200"/>
            <a:chExt cx="2435400" cy="380880"/>
          </a:xfrm>
        </p:grpSpPr>
        <p:sp>
          <p:nvSpPr>
            <p:cNvPr id="412" name=""/>
            <p:cNvSpPr/>
            <p:nvPr/>
          </p:nvSpPr>
          <p:spPr>
            <a:xfrm>
              <a:off x="5943600" y="426708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52520" y="38862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F03-AD57-4B14-8E8F-70DA27968F5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15258-91F1-4104-947A-50246CA68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553440" cy="4762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Upon first starting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296244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3352680" y="5181480"/>
            <a:ext cx="2435760" cy="380880"/>
            <a:chOff x="3352680" y="5181480"/>
            <a:chExt cx="2435760" cy="380880"/>
          </a:xfrm>
        </p:grpSpPr>
        <p:sp>
          <p:nvSpPr>
            <p:cNvPr id="253" name=""/>
            <p:cNvSpPr/>
            <p:nvPr/>
          </p:nvSpPr>
          <p:spPr>
            <a:xfrm>
              <a:off x="3352680" y="556236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61960" y="51814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5EA-5EEC-429E-8013-F52EF4E803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46B9C-AD03-4BE0-810B-5B59C34309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Gain setting tip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he PGA to get acceptable (~100 to ~3900) signa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ss noi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ize the number of different gain setting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te scan taken for ea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cells using same 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 scan all cells at all gain sett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000240" cy="144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V="1">
            <a:off x="4952880" y="3809520"/>
            <a:ext cx="137160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86400" y="4114440"/>
            <a:ext cx="838080" cy="1219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A9F-A594-4F20-92FC-4595B8B34C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FD014-315F-4F05-B765-E50778949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tting known gains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066680" y="1571760"/>
            <a:ext cx="6858000" cy="498312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2438280" y="1371600"/>
            <a:ext cx="2435760" cy="380880"/>
            <a:chOff x="2438280" y="1371600"/>
            <a:chExt cx="2435760" cy="380880"/>
          </a:xfrm>
        </p:grpSpPr>
        <p:sp>
          <p:nvSpPr>
            <p:cNvPr id="422" name=""/>
            <p:cNvSpPr/>
            <p:nvPr/>
          </p:nvSpPr>
          <p:spPr>
            <a:xfrm>
              <a:off x="2438280" y="17524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47560" y="13716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066680" y="1571760"/>
            <a:ext cx="6856560" cy="498132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2743200" y="1647720"/>
            <a:ext cx="2435400" cy="380880"/>
            <a:chOff x="2743200" y="1647720"/>
            <a:chExt cx="2435400" cy="380880"/>
          </a:xfrm>
        </p:grpSpPr>
        <p:sp>
          <p:nvSpPr>
            <p:cNvPr id="426" name=""/>
            <p:cNvSpPr/>
            <p:nvPr/>
          </p:nvSpPr>
          <p:spPr>
            <a:xfrm>
              <a:off x="2743200" y="202860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52120" y="164772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371600" y="2819520"/>
            <a:ext cx="4570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2666880" y="2971800"/>
            <a:ext cx="4056840" cy="380880"/>
            <a:chOff x="2666880" y="2971800"/>
            <a:chExt cx="4056840" cy="380880"/>
          </a:xfrm>
        </p:grpSpPr>
        <p:sp>
          <p:nvSpPr>
            <p:cNvPr id="430" name=""/>
            <p:cNvSpPr/>
            <p:nvPr/>
          </p:nvSpPr>
          <p:spPr>
            <a:xfrm>
              <a:off x="2666880" y="33526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74360" y="2971800"/>
              <a:ext cx="234936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Enter gain setting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334120" y="3581280"/>
            <a:ext cx="3490200" cy="916920"/>
            <a:chOff x="5334120" y="3581280"/>
            <a:chExt cx="3490200" cy="916920"/>
          </a:xfrm>
        </p:grpSpPr>
        <p:sp>
          <p:nvSpPr>
            <p:cNvPr id="433" name=""/>
            <p:cNvSpPr/>
            <p:nvPr/>
          </p:nvSpPr>
          <p:spPr>
            <a:xfrm>
              <a:off x="5334120" y="39621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35840" y="3581280"/>
              <a:ext cx="1788480" cy="9169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Select gain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from previous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experimen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A48-5353-45E5-BDE0-EAE4265426A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7FB9C-E8F2-42AD-A496-860F20FB4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tarting the experimen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066680" y="1571760"/>
            <a:ext cx="6858000" cy="4983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029200" y="1371600"/>
            <a:ext cx="9144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395520" y="2552760"/>
            <a:ext cx="2352960" cy="1752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34120" y="1781280"/>
            <a:ext cx="2666880" cy="3682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rt experiment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486400" y="3657600"/>
            <a:ext cx="2435400" cy="380880"/>
            <a:chOff x="5486400" y="3657600"/>
            <a:chExt cx="2435400" cy="380880"/>
          </a:xfrm>
        </p:grpSpPr>
        <p:sp>
          <p:nvSpPr>
            <p:cNvPr id="441" name=""/>
            <p:cNvSpPr/>
            <p:nvPr/>
          </p:nvSpPr>
          <p:spPr>
            <a:xfrm>
              <a:off x="5486400" y="403848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95320" y="36576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43D-1C20-4705-859C-37F29EBCBD9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BF0A2-1D55-470B-84D5-68AF1FD60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297080" y="1447920"/>
            <a:ext cx="6856200" cy="49813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Running appearanc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2971800"/>
            <a:ext cx="129528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Method ste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3733920"/>
            <a:ext cx="175248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ep inform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7162920" y="2819520"/>
            <a:ext cx="175248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e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7162920" y="838080"/>
            <a:ext cx="1752480" cy="60984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84F-DDC0-4B25-BF46-FAEF29253DA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025CA-ECE5-468B-9978-13A31322E3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143000" y="1495440"/>
            <a:ext cx="6856560" cy="4981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During a sca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6201720" y="922320"/>
            <a:ext cx="1564560" cy="64260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xperiment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7004520" y="2286000"/>
            <a:ext cx="897120" cy="64260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c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DB7-9B4B-4A58-9A8E-D3604156143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EE671-7920-4205-99DE-4F92BB9AF3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7" dur="1" fill="hold"/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143000" y="1495440"/>
            <a:ext cx="6856560" cy="49816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Pausing a ru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191120" y="1523880"/>
            <a:ext cx="2435400" cy="380880"/>
            <a:chOff x="4191120" y="1523880"/>
            <a:chExt cx="2435400" cy="380880"/>
          </a:xfrm>
        </p:grpSpPr>
        <p:sp>
          <p:nvSpPr>
            <p:cNvPr id="456" name=""/>
            <p:cNvSpPr/>
            <p:nvPr/>
          </p:nvSpPr>
          <p:spPr>
            <a:xfrm>
              <a:off x="4191120" y="19047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00040" y="15238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6478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48160" y="3286080"/>
            <a:ext cx="2435400" cy="380880"/>
            <a:chOff x="4448160" y="3286080"/>
            <a:chExt cx="2435400" cy="380880"/>
          </a:xfrm>
        </p:grpSpPr>
        <p:sp>
          <p:nvSpPr>
            <p:cNvPr id="460" name=""/>
            <p:cNvSpPr/>
            <p:nvPr/>
          </p:nvSpPr>
          <p:spPr>
            <a:xfrm>
              <a:off x="4448160" y="36669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57080" y="32860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00400" y="2666880"/>
            <a:ext cx="3781440" cy="100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4CD-CA12-46C8-A71B-EB7D71EE1CB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F1DBE-9D43-4EBB-BB64-DB922AFB71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Resuming an experimen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856560" cy="498168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3809880" y="1600200"/>
            <a:ext cx="2435760" cy="380880"/>
            <a:chOff x="3809880" y="1600200"/>
            <a:chExt cx="2435760" cy="380880"/>
          </a:xfrm>
        </p:grpSpPr>
        <p:sp>
          <p:nvSpPr>
            <p:cNvPr id="466" name=""/>
            <p:cNvSpPr/>
            <p:nvPr/>
          </p:nvSpPr>
          <p:spPr>
            <a:xfrm>
              <a:off x="3809880" y="198108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19160" y="16002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352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4648320" y="3352680"/>
            <a:ext cx="2435400" cy="380880"/>
            <a:chOff x="4648320" y="3352680"/>
            <a:chExt cx="2435400" cy="380880"/>
          </a:xfrm>
        </p:grpSpPr>
        <p:sp>
          <p:nvSpPr>
            <p:cNvPr id="470" name=""/>
            <p:cNvSpPr/>
            <p:nvPr/>
          </p:nvSpPr>
          <p:spPr>
            <a:xfrm>
              <a:off x="4648320" y="373356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57240" y="33526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676520" y="2438280"/>
            <a:ext cx="5076720" cy="12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2B6-DCE0-493C-BC43-BEDC102E38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1B3EC-D06A-479C-AC40-0BD0BFA7D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6645240" cy="4984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hanging appearanc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848120" y="1455840"/>
            <a:ext cx="214668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8754"/>
              <a:gd name="adj5" fmla="val 136393"/>
              <a:gd name="adj6" fmla="val -27175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Machine setting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ispla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4957920" y="2209680"/>
            <a:ext cx="22809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9939"/>
              <a:gd name="adj5" fmla="val 231240"/>
              <a:gd name="adj6" fmla="val -332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xperiment stat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ispla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5327280" y="3000240"/>
            <a:ext cx="158292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12388"/>
              <a:gd name="adj5" fmla="val 336129"/>
              <a:gd name="adj6" fmla="val -4047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ata graph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1066680" y="1481040"/>
            <a:ext cx="6856560" cy="49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0EF-F0FC-4E34-A2D0-A31BFAEAFBE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66657-7B59-4F6F-8146-49C82CB93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periment ende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85656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156-1861-45CD-A247-D9AB2843DE4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48168-0A88-42A7-B2BA-BB3622DA56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iting the program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856560" cy="49813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2381400" cy="148608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5384160" y="1233360"/>
            <a:ext cx="2435400" cy="380880"/>
            <a:chOff x="5384160" y="1233360"/>
            <a:chExt cx="2435400" cy="380880"/>
          </a:xfrm>
        </p:grpSpPr>
        <p:sp>
          <p:nvSpPr>
            <p:cNvPr id="485" name=""/>
            <p:cNvSpPr/>
            <p:nvPr/>
          </p:nvSpPr>
          <p:spPr>
            <a:xfrm flipH="1">
              <a:off x="5457600" y="161424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384160" y="123336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755360" y="3581280"/>
            <a:ext cx="2435760" cy="380880"/>
            <a:chOff x="1755360" y="3581280"/>
            <a:chExt cx="2435760" cy="380880"/>
          </a:xfrm>
        </p:grpSpPr>
        <p:sp>
          <p:nvSpPr>
            <p:cNvPr id="488" name=""/>
            <p:cNvSpPr/>
            <p:nvPr/>
          </p:nvSpPr>
          <p:spPr>
            <a:xfrm flipH="1">
              <a:off x="1828800" y="3962160"/>
              <a:ext cx="23623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755360" y="358128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438360" y="3000240"/>
            <a:ext cx="2267280" cy="8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F30-18A1-4DC0-9DE7-3F4333471E5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E7FF8-E5E5-4A5F-942E-D57F6A071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After selecting a setup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12200" cy="4876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76720" y="609480"/>
            <a:ext cx="914400" cy="60984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za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500040"/>
            <a:ext cx="9144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tu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300560" y="471600"/>
            <a:ext cx="11430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533520"/>
            <a:ext cx="13716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949-4196-456F-A306-2A9A0EFC0CB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B8983-6293-46CD-B756-FB5C0B797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File outpu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645240" cy="4984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379960" y="1828800"/>
            <a:ext cx="1860120" cy="64260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Main directo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AUC D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670120" y="3048120"/>
            <a:ext cx="2238120" cy="64260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ate subdirecto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0619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3034080" y="4114800"/>
            <a:ext cx="2257920" cy="64260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Time subdirecto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11573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5400000" y="2819520"/>
            <a:ext cx="2511000" cy="146556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ata fi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hannel: A, B, et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can number: 0000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ata type: FI, RA, I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ell number: FI1, FI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5390280" y="1219320"/>
            <a:ext cx="2463840" cy="146556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alibration fi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can number: 0000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ata type: C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ell number: _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Gain number: _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5345640" y="4419720"/>
            <a:ext cx="1380240" cy="3682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eport fi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885-956C-492D-98D6-3C43884ED29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FBC95-B245-4EEF-B6A3-7975CF5757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6" dur="1" fill="hold"/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periment repor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167652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AOS Experiment Repor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duced by: User  on 6/19/2005 12:03:01 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periment 6/19/2005 11:57:39 AM conducted by Administrator  on 6/19/2005 12:03:01 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path: C:\AUC Data\061905\11573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E12-5260-4D34-A5A2-BAB663B95D4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073B9-239B-41A6-BF92-0EBD5FC4F7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periment report: Setup information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1981080"/>
            <a:ext cx="7788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Experimental setu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up name: Default 4-hole velocity- fluorescence created by Administrator  on 1/12/2004 8:29:20 A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otor type: AnTi-4. A 4-Hole Titanium rotor with a top speed of 60000 rp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ell number: 1 is a 2 channel Charcoal-Epon 12 mm thick Velocity type with 12 mm deep channels, useable to 45000 rp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ell number: 2 is a 2 channel Charcoal-Epon 12 mm thick Velocity type with 12 mm deep channels, useable to 45000 rp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ell number: 3 is a 2 channel Charcoal-Epon 12 mm thick Velocity type with 12 mm deep channels, useable to 45000 rp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ell number: 4 is a 10 channel Delrin 12 mm thick Calibration type with 2 mm deep channels, useable to 60000 rp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8DF-F2E7-4DF6-9083-279EF9771587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1A8ED-54CD-459D-AD78-A39B8D530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periment report: Method information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561320"/>
            <a:ext cx="754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Tahoma"/>
              </a:rPr>
              <a:t>Experimental method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Method name: Two step created by: Administrator  on 7/30/2004 3:37:40 P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is method is not typically used for sedimentation velocity analysi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method waits for 50 um pressure to be reached before starting the rotor, and the method waits for temperature before starting the roto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(If the temperatures in the files do not match that called for in the method, the user may have overriden the method.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method is designed to work with the following optical systems: Fluorescence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ep 1 Rotor speed: 30000 Temperature: 20 There is no delay before starting this step,  and 2 scans were acquired as rapidly as possible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ep 2 Rotor speed: 60000 Temperature: 20 There is no delay before starting this step,  and 2 scans were acquired as rapidly as possible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he method shuts down the machine when it is completed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203-A823-43D5-B133-F96AD1FB411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D3B2D-1171-4CC8-B9DB-F043FC869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periment report: Sample note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Information specific to this 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ensity data were acquired at 20 micron intervals for 5 rotor revolutions at each radial positio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ain settings for excitation 488 nm and emission 505+ n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Notes for this 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eneral 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Cell 1 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nnel A: pH 8, 20.0 mM Tris, 150.0 mM NaCl, and 1000 nM Dye, with a [C] -&gt; signal multiplier of 1000.0 yielding an expected signal of 1000000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nnel B: pH 8, 20.0 mM Tris, 150.0 mM NaCl, and 500 nM Dye, with a [C] -&gt; signal multiplier of 1000.0 yielding an expected signal of 500000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 other 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AAA-8BF7-46F4-8F78-7E872CC8B2F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90E20-8BFC-4423-BA90-9217AAE66B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ahoma"/>
              </a:rPr>
              <a:t>Experiment report: Machine conditions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171072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Machine condition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76244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B37-87C2-44A2-B920-4291621823A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C5824-2959-4F9C-AC29-631FD8D137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Logs kept in the database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es experiment re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 lo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s on each ev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 start, pumping time (700, 50 micron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an starting/ending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rror lo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15B-5257-490C-9ED3-484F4AFCECD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40866-5760-402D-A64E-2EA13219A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Talking to the outside worl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OS provides socket for connection to other programs running on other compu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raft specifications include ~50 commands th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ow an experiment to be set 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ow monitoring the machine/experiment stat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E02-5B73-4341-B447-3809115FFD6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737F-80EA-4E2B-98B3-759BDDB15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324320" cy="3095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periment wizar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2590920"/>
            <a:ext cx="9144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iza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548640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User login (optional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914400" cy="60984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g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548640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Walks” through each step needed to setup an 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276720"/>
            <a:ext cx="198576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perim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42448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Experiment name, data path (optional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3886200"/>
            <a:ext cx="198576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otor setu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541008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otor type, cell typ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4191120"/>
            <a:ext cx="198576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etho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541008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otor speed, temperature, scan interval, number of sca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4572000"/>
            <a:ext cx="2743200" cy="609480"/>
          </a:xfr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lect cells- add 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5486400"/>
            <a:ext cx="71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elect which cells to scan, add notes (e.g. content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BA1-69FD-4C88-A631-AB0FF633D5D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8B77E-C0A5-46DC-A128-27A051373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User login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lev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r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un 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set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metho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ministr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ecd88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accou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00760" y="3086280"/>
            <a:ext cx="34099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A63-C34E-434E-8465-43A2C1A813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8BA2F-A661-4E2C-8C63-714B229031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eriment tit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utput data 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lect 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792680" y="2017800"/>
            <a:ext cx="366552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E2C-ECCD-4725-A5FD-64A49D250A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C8811-0659-4533-9777-DC6E16CFC5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Rotor setup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cept se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lect another se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a new se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ust match what is in the ro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260320" y="5486400"/>
            <a:ext cx="2435400" cy="380880"/>
            <a:chOff x="5260320" y="5486400"/>
            <a:chExt cx="2435400" cy="380880"/>
          </a:xfrm>
        </p:grpSpPr>
        <p:sp>
          <p:nvSpPr>
            <p:cNvPr id="285" name=""/>
            <p:cNvSpPr/>
            <p:nvPr/>
          </p:nvSpPr>
          <p:spPr>
            <a:xfrm flipH="1">
              <a:off x="5333760" y="5867280"/>
              <a:ext cx="23619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260320" y="5486400"/>
              <a:ext cx="726480" cy="368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ahoma"/>
                </a:rPr>
                <a:t>Click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48B-34E9-497B-8A54-6556859C99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C5894-EBFD-45CF-BB86-371300996A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lecting an existing setup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362640" cy="5121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6362640" cy="5121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600200" y="1219320"/>
            <a:ext cx="6362640" cy="1892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600200" y="1203480"/>
            <a:ext cx="636264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8DA-59AC-465A-BFFF-40A577BB8EB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0BB37-2488-460A-BC79-81CA455FD6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Select an existing method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95280" y="1057320"/>
            <a:ext cx="6629400" cy="5343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295280" y="1057320"/>
            <a:ext cx="6629400" cy="5343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295280" y="1057320"/>
            <a:ext cx="6629400" cy="5343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1295280" y="1057320"/>
            <a:ext cx="6629400" cy="53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130-40E0-41C2-A989-F269927141D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380A6-F14B-473C-AF2B-64B411A6F1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11:14:21Z</dcterms:created>
  <dc:creator>Tom Laue</dc:creator>
  <dc:description/>
  <dc:language>en-US</dc:language>
  <cp:lastModifiedBy>Tom Laue</cp:lastModifiedBy>
  <dcterms:modified xsi:type="dcterms:W3CDTF">2006-06-07T07:36:16Z</dcterms:modified>
  <cp:revision>88</cp:revision>
  <dc:subject/>
  <dc:title>AU-AO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